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39"/>
          </p:nvPr>
        </p:nvSpPr>
        <p:spPr>
          <a:xfrm>
            <a:off x="388440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body"/>
          </p:nvPr>
        </p:nvSpPr>
        <p:spPr>
          <a:xfrm>
            <a:off x="685800" y="4642920"/>
            <a:ext cx="54864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ftr" idx="40"/>
          </p:nvPr>
        </p:nvSpPr>
        <p:spPr>
          <a:xfrm>
            <a:off x="-3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 type="sldNum" idx="41"/>
          </p:nvPr>
        </p:nvSpPr>
        <p:spPr>
          <a:xfrm>
            <a:off x="388440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EEBE-3D72-4C48-B44E-A6F27F0A46F0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B368-8CA5-4624-A7B4-A6426E5A0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7E64-E560-4E50-83A6-370098F49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D160-E151-47D0-8DBE-DB63FDED0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7451-0E15-4191-834F-99C0322FA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8B84-F932-4EF8-A8E3-CFB61CAA8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3996-DDFD-496B-9EBE-97D420AAE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F516-4049-4F4B-90C3-5B8F38D02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AB30-B310-4045-A91D-FE9A66D01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B4EE-4E7D-44E3-9851-539804F10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2EF3-E5F3-4CF7-A914-D495A7A1C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3B45-8BE2-4D5F-9785-7AA54C3E7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8EE9-162F-4CF3-A61A-BCB84E16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548E1-2BE4-46E7-8D9D-B7BC76FF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2242C6-2675-421F-A39A-6709EA57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3510C-D307-4618-9A2F-556E9F7B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729A9-2082-4038-B68B-9142B361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2ACFA7-88BD-4661-ACC3-9C59474F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2CC33D-6424-489B-8DCB-39E32681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908804-3DB7-4496-9A7E-5E2AAFA0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A4B39-4405-433C-A98A-DC16AEF0B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C3A30-1F1F-4A62-8AD5-D9184B08C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51B08C-5074-4211-82F9-3D0DFB1C2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92BD-6290-47C6-A1C2-33CDBA48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10B28-0C5C-4672-A648-F87CE41E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13C5CE-EC28-4746-9512-BD2325B9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81080E-8429-43A6-9308-140FF823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854293-C898-43F4-9843-3CAC6D05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48A3F-A530-4356-B3F4-B91D5111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07F16B-3094-4D13-A524-55110201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7ECD6-9103-461C-8F4E-E8335A58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732EB-4737-465F-A7D0-8EA0F52C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1982D-B9CD-407D-8C29-EDFC7DFB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38442-CEE9-4D34-B1B1-8C7FCB841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6857-1D64-40E3-A09C-A9D9E65BE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AF98A-B713-45E6-9874-BEBFBF0CF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94990-381C-4224-B962-B349935CE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AE759-2AAB-4D33-B8C5-EEB665EC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2965E-D4CA-4BA5-908F-0E2E9C28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D0533-9CB6-4C82-A1AA-FCB9E8DA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4D513-3F50-485B-B272-AA914D7E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16EAE-479A-4024-BFCB-70713ACD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04B11-5372-416D-A156-4B32A78B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8DED7-CC25-48BF-8AC2-F6810C13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22A2E-9546-4D0F-96A2-417D5C04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3B21-2C16-415B-B623-BCBD4E51A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A426A-2009-4600-A2A0-45E85BBC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F4837-C770-4000-A842-BA529B44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BF844-77A4-48F1-A4CD-564DAC46B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04FB4-6D2D-4511-8411-F4CFD2B93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98C3AD-9849-4F5F-9C2C-D971810D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63F7F1-E61F-4693-AD45-61E649FC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54998B-1BEC-4BDC-AE54-F138B4DD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E7B02F-BE2D-417B-88A1-12A5F5E3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90FA4A-E9F4-4DC8-9549-BFB22B40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6B0561-208A-4F8B-86EE-436ACA05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93D3-F656-4A4B-A703-62F32352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E33EEE-0D05-4FF5-B2D4-7B308655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5DB354-4025-466F-BA20-0427B494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12618D-499E-4A99-80EE-5CBA999C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50787C-0585-4EAF-960B-1797AB1A3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DE2163-64AD-4287-BD69-76B71014C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813479-191B-4D21-878B-ABE7BAAF44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EC17C0-3902-4479-89D4-1A403B75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F4266B-C1F3-43D1-96A1-21C88E93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2F872F-391E-420E-A172-D6A360FE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3B9FCB-96B0-4677-BDC3-1459DF380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3A7C-A170-4B7F-9594-D2019D90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A23ADC2-EEAC-4D8F-9800-69CA80D6B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D5EF7A-8E04-4027-A59F-F7A193D9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A6F974F-269B-4399-A7B5-4B82ADAD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5113B5-95E4-4C2C-A6C0-0C1E4AE5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98F1B3-620B-4797-A525-49493B96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0899B6-47B7-41F4-8AAA-D35E237A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14DFE5-997F-48B9-847E-6A3AD3B5CB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EA9C-E1EA-4DAC-89D0-6AFE1651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4663-8441-44D4-BE1B-E11954CE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6386-6F8E-4181-9CC5-E3BB57C9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58E4-E81E-4754-A38A-FF528314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876E-ECF8-429D-A30F-27C70B50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128F-8056-466F-B42D-B5A80172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551A-18AD-4DB9-90FC-ECDA8C74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001E-E3DB-4D30-84C0-61E30D78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E912-4062-4285-B589-F6CCB01DD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EDF5-441D-4EA9-BA36-B8303E698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1FCB6-890C-4ACD-B9E0-CDA110E00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88EB0-B2CD-4EA0-9966-C6FA3067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4B89E-B793-4027-8527-5DC6155E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13504-788B-416E-80CA-F2608E75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F6AF7-E24E-48DA-A159-39761FBF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CA77-209C-43E4-89EC-B71AAF8F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62342-3E0F-4ADD-8BFB-23EDEFA5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C9ABA-80ED-456A-B5F9-9D01A22E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585E4-98B6-4AB9-BE76-2A644EBA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61F26-868D-482D-998A-648BA17D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55AF7-5303-4043-8176-61D4871D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3228C-A24B-4CC5-9CA0-C07A309B4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10E86-E9A7-4B01-896E-C925DD4E7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E55A2-EC21-4F9F-AFF6-CD87ED409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A1879-BBA7-4A1E-85AD-6760A813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A9BCA-89A7-4736-9FD6-359C8118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13D0-4931-4FD3-B225-F06E1244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67553-E8AC-44CF-9718-5E8C5491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93FFB-AD95-478E-9986-1F411BD2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4CA96-EBFC-4823-967D-0E3D1903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DCF97-9B87-4F08-BCDF-BE81DD9A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A727E-6870-4512-B2B0-533C3ED6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0317B-9214-434E-B199-0145D559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5FFBF-10FA-4D11-A881-64103BC9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DA936-1D2D-4A64-B567-4782B337E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7EB64-24C2-4CAC-B74D-8E94C5E55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6D80B-F278-4ABD-BC6C-CBDD8298B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F2D4-E357-4956-B675-7019F2FC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8A898-7D0E-460B-B1EC-A0B82B7A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24200-EB8E-4C94-A8C6-7817C89A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E1A8E-9E2A-45C0-B4C6-F791EFB2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ABF48-3305-4D24-8AF3-1E7030AC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69F5B-32F6-4758-A046-B2025B57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09514-EE2B-45C1-AEEB-305D8AA9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AF80A-F8D2-43FD-AE2C-1CE6EECA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AF9D6-73C5-450E-A91E-D618C287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66681-423E-4916-BC68-ED11A6B0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2F5D6-6734-4CF8-AA85-E6790DEEE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0EB0-71F3-452F-B2FE-5F79EAFF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8AB65-5E69-42DC-844D-875805AA7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CA29A-1CC7-45FE-94F8-7FAAFAB3F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5A137-4C43-4CE7-92B5-8DC3E165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49A9B-47FD-487D-9C70-F08E3633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49B76-EE8C-4113-AD11-4F62318D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DA4EC-F00F-42AE-9A56-F71B8A27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7A5C3-1A70-4AE3-BA79-C29E89C5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8E6B7-5E34-4464-A27B-0BA7EEE8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0CBDD-0478-46E8-B577-55B97B6F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ACBBF-2135-4B23-92E4-2BBC0F7A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4A8F-4D81-41DA-8AFA-8FBA7627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D47EE-7340-4692-B2D6-C3BEC6D2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1E681-A9CE-47D9-B5B0-49C724CB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46F16-23F5-4ADC-AFFE-3C92084F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EDE58-8507-4301-9186-B3AA93262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A9D3A-7725-41AD-A515-7777A66A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48523-4432-4AB2-B9C9-15F66DD6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F669F-A494-466B-BF8B-9CDA0F04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BABCC-885C-4AC0-B76E-A4FCA650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1813E-85FD-47EB-81DD-8AD18962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69404-3A6F-4683-8AEB-EF509E1D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B3C8-25CA-4F26-AB0B-449E1435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85B73-557A-4493-9CFB-23044049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639DB-DA98-4C0C-9B89-E1B84567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C8544-9E76-4B37-989A-B12C3F41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37C21-4189-478F-A8B3-951DFEF09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67FD8-3F5B-42B9-99E7-A85C18226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9A0D2-84C3-4086-AEED-33CB6A4DD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B36BD-E8DB-4AB3-954B-1CD20CD8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AAA39-D1CF-42B2-A53B-75EDB645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54558-C194-4253-B4CF-40012F04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25C57-CA15-4E23-A561-C37E59DC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336D-2E51-4FBE-9AE0-38142425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409E6-8FE2-45AF-A978-0B6EC7C2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FD6EB-FBD4-44A4-8C86-482717C4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85AE4-AF13-4DB8-99EC-A3D9AAD5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1DE40-D282-49EC-BEFA-72CD6A4A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68A78-3F93-4606-87F9-58CB94F3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B1AA8-77C2-4AC3-BD72-5BACFC937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1D6F0-4050-47F0-B5B1-356057C3C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F2749-4D58-42FC-B00B-EB6FD1CAE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E0A76-5AB2-4633-8AEC-72E25A98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31945-B608-4BA7-B49B-E8E8C34A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F489-5A8C-4FEC-A4A3-8C1D43C05649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9FB7-D895-4D67-917B-625F212E59AB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7ADA-E579-4DCF-BF39-E2E01C954D4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4908-4971-4E2B-8975-02926AA2480D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3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EFFD-C3BC-4A54-BB94-C2066EC09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0465-A84D-4DD8-AD12-887CF1DAA01F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234D-79B4-4B6F-A3C4-E0F193127A90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CA3C-4FF6-4771-81AC-8F21B2D727B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1482-5C4F-423F-A1AC-61A3B95236B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229D-2B32-453C-A7A5-C9FE5563160E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C8AF-0167-4054-93E7-78C9ECA5EED7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6CCE-B929-4BA1-8E26-A0059A533B9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0781-2512-4CF8-B47D-A3F600BB255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13 - Ορθογώνιο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 Ακαδημαϊκού Έτους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0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-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1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14 - Ορθογώνιο"/>
          <p:cNvSpPr/>
          <p:nvPr/>
        </p:nvSpPr>
        <p:spPr>
          <a:xfrm>
            <a:off x="1332000" y="4437000"/>
            <a:ext cx="6875280" cy="13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15 - Ορθογώνιο"/>
          <p:cNvSpPr/>
          <p:nvPr/>
        </p:nvSpPr>
        <p:spPr>
          <a:xfrm>
            <a:off x="826920" y="5805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Παναγιώτης Ν. Μαντάς-Σπυριδούλα Κατσαντών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9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0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1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545" name="12 - Εικόνα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3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πόψεις Γονέων παιδιών με ειδικές εκπαιδευτικές ανάγκες για την ένταξη των μαθητών  με εεα/αναπηρίε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21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22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Ένταξη και Ενσωμάτωση: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ημασιολογική Διασαφήνιση των όρων- Προσδιορισμοί και Οριοθετήσεις</a:t>
            </a:r>
            <a:br>
              <a:rPr sz="3200"/>
            </a:br>
            <a:br>
              <a:rPr sz="2000"/>
            </a:br>
            <a:br>
              <a:rPr sz="20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Παναγιώτης Ν. Μαντά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30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31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14 - Ορθογώνιο"/>
          <p:cNvSpPr/>
          <p:nvPr/>
        </p:nvSpPr>
        <p:spPr>
          <a:xfrm>
            <a:off x="395280" y="3573360"/>
            <a:ext cx="8137440" cy="24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10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640" name="12 - Εικόνα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3200"/>
          </a:xfrm>
          <a:prstGeom prst="rect">
            <a:avLst/>
          </a:prstGeom>
          <a:ln w="0">
            <a:noFill/>
          </a:ln>
        </p:spPr>
      </p:pic>
      <p:sp>
        <p:nvSpPr>
          <p:cNvPr id="641" name="5 - Ορθογώνιο"/>
          <p:cNvSpPr/>
          <p:nvPr/>
        </p:nvSpPr>
        <p:spPr>
          <a:xfrm>
            <a:off x="611280" y="59500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Παναγιώτης Ν. Μαντάς-Σπυριδούλα Κατσαντών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6 - Ορθογώνιο"/>
          <p:cNvSpPr/>
          <p:nvPr/>
        </p:nvSpPr>
        <p:spPr>
          <a:xfrm>
            <a:off x="179280" y="5084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Ενότητα 4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Ένταξη και Ενσωμάτωση: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ημασιολογική Διασαφήνιση των όρων- Προσδιορισμοί και Οριοθετήσεις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  </a:t>
            </a: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Παναγιώτης Ν. Μαντάς-Σπυριδούλα Κατσαντώνη</a:t>
            </a:r>
            <a:br>
              <a:rPr sz="1800"/>
            </a:b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4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5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Θεματικοί Άξονες Ενότητας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58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59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2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4.1.Ένταξη και Ενσωμάτωση: </a:t>
            </a:r>
            <a:br>
              <a:rPr sz="2800"/>
            </a:b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ημασιολογική Διασαφήνιση των όρων- Προσδιορισμοί και Οριοθετήσει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67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68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1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4.2.Αντιλήψει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τάσεις και απόψεις 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ων εκπαιδευτικών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για την ένταξη των μαθητών με εεα/αναπηρίε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76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77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3.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Ο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Ρόλος των εκπαιδευτικών και οι απόψεις τους για την ένταξη των μαθητών με  ΕΕΑ/ΑΝΑΠΗΡΙΕ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85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86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63280" y="1392120"/>
            <a:ext cx="788508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4.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πόψεις  και αντιλήψεις 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ων εκπαιδευτικών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ης Γενικής Τάξης για την ένταξη μαθητών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μ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Ειδικές Μαθησιακές Ανάγκες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μέσα από έρευνες.</a:t>
            </a:r>
            <a:br>
              <a:rPr sz="1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94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95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8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5.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Οι αντιλήψεις των μαθητώ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για την ένταξη των συμμαθητών τους με εεα/αναπηρίε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03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04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7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6.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Οι αντιλήψεις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ου Οικογενειακού Περιβάλλοντο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για την ένταξη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ων μαθητών  με εεα/αναπηρίες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12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13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6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8:34:10Z</dcterms:created>
  <dc:creator>Maria Petmesidou</dc:creator>
  <dc:description/>
  <dc:language>en-US</dc:language>
  <cp:lastModifiedBy>MANTAS</cp:lastModifiedBy>
  <dcterms:modified xsi:type="dcterms:W3CDTF">2020-10-13T09:30:42Z</dcterms:modified>
  <cp:revision>158</cp:revision>
  <dc:subject/>
  <dc:title>Παρουσίαση του PowerPoint</dc:title>
</cp:coreProperties>
</file>